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6A5A9-DDF7-4090-AF8B-42A610197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CDFA1-859C-42AB-831E-2683FECEF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ED72D-658A-49CD-97F6-30AF01061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A97C3-35CC-407F-AA4E-A89D09033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BEE620-F105-4A2A-AF92-10A02B30D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8BE3B-3A10-463C-BA76-6580C612E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DE86-D5B0-4312-B822-3F8EDAA58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6A848-E074-4B04-95DA-6EABAE563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A1B30-AF40-4045-B2EF-D5642B39D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E8770-E064-4944-B88E-F3E68B3AEA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C158A-5F7D-476F-9044-FC78EB8B6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DFE91-99B6-4CBB-BFCB-0E3BB442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A709C-F7C6-4672-9170-3D852E0E6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962CB-ED4A-45B2-99B7-D8596C328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6BFA0-2D69-470A-9B9F-CFBFA87C9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DBAEAA-91E5-43F5-B946-FBD460874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765BD-4FE4-4548-981E-F2C56C1C13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33213-F2CE-4470-959F-B4C17AA24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6A9C1-9612-40D5-BA1A-99CF73B3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6B59-8EAF-44E3-8700-EC56270C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4541-EAAC-4D30-94F3-B1377C618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1C69-4577-4F25-A245-38DC018B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7D1DD-1159-47F3-A6F4-6FF71AFD1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895B-C3F2-4AD3-BCE9-1D19C4DD6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F5D7-5F9E-4825-BFC7-DBD4C59FDCCA}"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cc"/>
                </a:solidFill>
                <a:latin typeface="Arial"/>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D911-D7F2-4016-BCD3-6D84D3D8117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2124000"/>
            <a:ext cx="7772400" cy="17366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33cc33"/>
                </a:solidFill>
                <a:latin typeface="Times New Roman"/>
              </a:rPr>
              <a:t>ALIMENTACION EN LA ADOLESCENCIA</a:t>
            </a:r>
            <a:endParaRPr b="0" i="1" lang="en-US" sz="5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PLASTICOS</a:t>
            </a:r>
            <a:endParaRPr b="0" lang="en-US" sz="3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1- LECHE Y DERIVADOS</a:t>
            </a:r>
            <a:r>
              <a:rPr b="0" lang="en-US" sz="3200" spc="-1" strike="noStrike">
                <a:solidFill>
                  <a:srgbClr val="ffffcc"/>
                </a:solidFill>
                <a:latin typeface="Times New Roman"/>
              </a:rPr>
              <a:t>. 600-850 ml/día y una ración de queso de 150-200 gr/d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2- CARNES Y PESCADOS</a:t>
            </a:r>
            <a:r>
              <a:rPr b="0" lang="en-US" sz="3200" spc="-1" strike="noStrike">
                <a:solidFill>
                  <a:srgbClr val="ffffcc"/>
                </a:solidFill>
                <a:latin typeface="Times New Roman"/>
              </a:rPr>
              <a:t>. 150-200 gr/dí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3- HUEVOS</a:t>
            </a:r>
            <a:r>
              <a:rPr b="0" lang="en-US" sz="3200" spc="-1" strike="noStrike">
                <a:solidFill>
                  <a:srgbClr val="ffffcc"/>
                </a:solidFill>
                <a:latin typeface="Times New Roman"/>
              </a:rPr>
              <a:t>. 1 al día (4 semanales), si sustituyen a una ración de carne o pescado se tomarán 2</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ENERTICOS</a:t>
            </a:r>
            <a:endParaRPr b="0" lang="en-US" sz="36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ARROZ, PAN, PASTA Y PATATAS</a:t>
            </a:r>
            <a:r>
              <a:rPr b="0" lang="en-US" sz="3200" spc="-1" strike="noStrike">
                <a:solidFill>
                  <a:srgbClr val="ffff00"/>
                </a:solidFill>
                <a:latin typeface="Times New Roman"/>
              </a:rPr>
              <a:t>. </a:t>
            </a:r>
            <a:r>
              <a:rPr b="0" lang="en-US" sz="3200" spc="-1" strike="noStrike">
                <a:solidFill>
                  <a:srgbClr val="ffffcc"/>
                </a:solidFill>
                <a:latin typeface="Times New Roman"/>
              </a:rPr>
              <a:t>2 raciones diarias,sobretodo asegurarlas en el desayuno.</a:t>
            </a:r>
            <a:endParaRPr b="0" lang="en-US" sz="3200" spc="-1" strike="noStrike">
              <a:solidFill>
                <a:srgbClr val="ffffcc"/>
              </a:solidFill>
              <a:latin typeface="Times New Roman"/>
            </a:endParaRPr>
          </a:p>
          <a:p>
            <a:pPr marL="343080" indent="-343080" algn="ctr">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LIMENTOS REGULADORES</a:t>
            </a:r>
            <a:endParaRPr b="0" lang="en-US" sz="36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imes New Roman"/>
              </a:rPr>
              <a:t>FRUTAS VERDURAS COCIDAS Y CRUDAS</a:t>
            </a:r>
            <a:r>
              <a:rPr b="0" lang="en-US" sz="3200" spc="-1" strike="noStrike">
                <a:solidFill>
                  <a:srgbClr val="ffff00"/>
                </a:solidFill>
                <a:latin typeface="Times New Roman"/>
              </a:rPr>
              <a:t>. </a:t>
            </a:r>
            <a:r>
              <a:rPr b="0" lang="en-US" sz="3200" spc="-1" strike="noStrike">
                <a:solidFill>
                  <a:srgbClr val="ffffcc"/>
                </a:solidFill>
                <a:latin typeface="Times New Roman"/>
              </a:rPr>
              <a:t>Una ensalada diaria y 3-4 piezas de fru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CANTIDADE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Times New Roman"/>
              </a:rPr>
              <a:t>BEBIDAS</a:t>
            </a:r>
            <a:r>
              <a:rPr b="0" lang="en-US" sz="3600" spc="-1" strike="noStrike">
                <a:solidFill>
                  <a:srgbClr val="ffffcc"/>
                </a:solidFill>
                <a:latin typeface="Times New Roman"/>
              </a:rPr>
              <a:t> </a:t>
            </a:r>
            <a:endParaRPr b="0" lang="en-US" sz="36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litros de agua y moderar el consumo de bebidas azucaradas. Es muy nocivo el consumo de alcohol a esta e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 Aumenta el consumo de leche. Se puede reemplazar por yogurt o queso fresco. 1000 ml/dí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Pescado, pavo y pollo contienen menos grasa saturada y colesterol. Consumir parte magra de la carne. Tanta carne como pescado</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 Aumenta el consumo de frutas, verduras y legumbres. 2 veces/semana legumbres mezcladas con verdur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1 vez a la semana arroz. 1 vez a la semana pasta.</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 Mejor aceites vegetales en crudo. Frituras ocasionalmente.</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 Disminuye el consumo de azúcar. Alimentos que incluyen azúcar en su elaboración: bebidas, zumos, mermelada, galletas, helados, tortas y pasteles).</a:t>
            </a: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RECOMENDACIONES</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7- No abusar de la sal.</a:t>
            </a:r>
            <a:endParaRPr b="0" lang="en-US" sz="32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8- El consumo de comida rápida no es un problema si se hace de un modo esporád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24000" y="260280"/>
            <a:ext cx="8569080" cy="633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2060280"/>
            <a:ext cx="7772400" cy="230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00"/>
                </a:solidFill>
                <a:latin typeface="Times New Roman"/>
              </a:rPr>
              <a:t>DIETA DE 2500 KCAL EN ADOLESCENCIA</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DESAYUNO                                   </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00 ml. de leche ó 2 yogures naturales.</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60 gr. de pan blanco o integral o 6 galletas “María”.</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200 gr. de fruta fres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Times New Roman"/>
                <a:ea typeface="Arial"/>
              </a:rPr>
              <a:t>MEDIA MAÑANA</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80 gr. de pan blanco o integral.</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100 ml. de leche ó 1 yogures naturale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1031760"/>
            <a:ext cx="8713800" cy="58262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Adolescencia</a:t>
            </a:r>
            <a:r>
              <a:rPr b="0" i="1" lang="en-US" sz="4400" spc="-1" strike="noStrike">
                <a:solidFill>
                  <a:srgbClr val="ffcc66"/>
                </a:solidFill>
                <a:latin typeface="Times New Roman"/>
              </a:rPr>
              <a:t>= </a:t>
            </a:r>
            <a:r>
              <a:rPr b="0" i="1" lang="en-US" sz="3600" spc="-1" strike="noStrike">
                <a:solidFill>
                  <a:srgbClr val="ffcc66"/>
                </a:solidFill>
                <a:latin typeface="Times New Roman"/>
              </a:rPr>
              <a:t>Etapa crucial de cambios:</a:t>
            </a:r>
            <a:br>
              <a:rPr sz="3600"/>
            </a:br>
            <a:br>
              <a:rPr sz="3600"/>
            </a:br>
            <a:r>
              <a:rPr b="0" i="1" lang="en-US" sz="3600" spc="-1" strike="noStrike">
                <a:solidFill>
                  <a:srgbClr val="ffcc66"/>
                </a:solidFill>
                <a:latin typeface="Times New Roman"/>
              </a:rPr>
              <a:t> 1- Psicológicos </a:t>
            </a:r>
            <a:br>
              <a:rPr sz="3600"/>
            </a:br>
            <a:r>
              <a:rPr b="0" i="1" lang="en-US" sz="3600" spc="-1" strike="noStrike">
                <a:solidFill>
                  <a:srgbClr val="ffcc66"/>
                </a:solidFill>
                <a:latin typeface="Times New Roman"/>
              </a:rPr>
              <a:t> 2- Corporales y crecimiento </a:t>
            </a:r>
            <a:br>
              <a:rPr sz="3600"/>
            </a:br>
            <a:r>
              <a:rPr b="0" i="1" lang="en-US" sz="3600" spc="-1" strike="noStrike">
                <a:solidFill>
                  <a:srgbClr val="ffcc66"/>
                </a:solidFill>
                <a:latin typeface="Times New Roman"/>
              </a:rPr>
              <a:t>3- Vestimenta y de relaciones</a:t>
            </a:r>
            <a:br>
              <a:rPr sz="3600"/>
            </a:br>
            <a:r>
              <a:rPr b="0" i="1" lang="en-US" sz="3600" spc="-1" strike="noStrike">
                <a:solidFill>
                  <a:srgbClr val="ffcc66"/>
                </a:solidFill>
                <a:latin typeface="Times New Roman"/>
              </a:rPr>
              <a:t>4- Sexualidad</a:t>
            </a:r>
            <a:br>
              <a:rPr sz="3600"/>
            </a:br>
            <a:br>
              <a:rPr sz="3600"/>
            </a:br>
            <a:r>
              <a:rPr b="0" i="1" lang="en-US" sz="3600" spc="-1" strike="noStrike">
                <a:solidFill>
                  <a:srgbClr val="ffcc66"/>
                </a:solidFill>
                <a:latin typeface="Times New Roman"/>
              </a:rPr>
              <a:t>               CONSECUENCIA</a:t>
            </a:r>
            <a:br>
              <a:rPr sz="3600"/>
            </a:br>
            <a:br>
              <a:rPr sz="3600"/>
            </a:br>
            <a:r>
              <a:rPr b="0" i="1" lang="en-US" sz="3600" spc="-1" strike="noStrike">
                <a:solidFill>
                  <a:srgbClr val="ffcc66"/>
                </a:solidFill>
                <a:latin typeface="Times New Roman"/>
              </a:rPr>
              <a:t>            </a:t>
            </a:r>
            <a:r>
              <a:rPr b="0" i="1" lang="en-US" sz="4400" spc="-1" strike="noStrike">
                <a:solidFill>
                  <a:srgbClr val="ff3300"/>
                </a:solidFill>
                <a:latin typeface="Times New Roman"/>
              </a:rPr>
              <a:t>i DESCONCIERTO</a:t>
            </a:r>
            <a:r>
              <a:rPr b="0" i="1" lang="en-US" sz="3600" spc="-1" strike="noStrike">
                <a:solidFill>
                  <a:srgbClr val="ff3300"/>
                </a:solidFill>
                <a:latin typeface="Times New Roman"/>
              </a:rPr>
              <a:t> !</a:t>
            </a:r>
            <a:endParaRPr b="0" i="1" lang="en-US" sz="36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COMIDA</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verdura (cocida ó en ensalada) </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50g de patata ó</a:t>
            </a:r>
            <a:r>
              <a:rPr b="0" lang="en-US" sz="2800" spc="-1" strike="noStrike">
                <a:solidFill>
                  <a:srgbClr val="ffffcc"/>
                </a:solidFill>
                <a:latin typeface="Arial Unicode MS"/>
                <a:ea typeface="Arial Unicode MS"/>
              </a:rPr>
              <a:t> </a:t>
            </a:r>
            <a:r>
              <a:rPr b="0" lang="en-US" sz="2800" spc="-1" strike="noStrike">
                <a:solidFill>
                  <a:srgbClr val="ffffcc"/>
                </a:solidFill>
                <a:latin typeface="Arial"/>
                <a:ea typeface="Arial"/>
              </a:rPr>
              <a:t>60 g de legumbres ó 50 g de arroz ó pasta</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25 g de carne magra sin piel ó</a:t>
            </a:r>
            <a:r>
              <a:rPr b="0" lang="en-US" sz="2800" spc="-1" strike="noStrike">
                <a:solidFill>
                  <a:srgbClr val="ffffcc"/>
                </a:solidFill>
                <a:latin typeface="Arial Unicode MS"/>
                <a:ea typeface="Arial Unicode MS"/>
              </a:rPr>
              <a:t> </a:t>
            </a:r>
            <a:r>
              <a:rPr b="0" lang="en-US" sz="2800" spc="-1" strike="noStrike">
                <a:solidFill>
                  <a:srgbClr val="ffffcc"/>
                </a:solidFill>
                <a:latin typeface="Arial"/>
                <a:ea typeface="Arial"/>
              </a:rPr>
              <a:t>200g de pescado blanco ó 125 g de pescado azul</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fruta fresca</a:t>
            </a:r>
            <a:endParaRPr b="0" lang="en-US" sz="2800" spc="-1" strike="noStrike">
              <a:solidFill>
                <a:srgbClr val="ffff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80 g de pan</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00cc"/>
                </a:solidFill>
                <a:latin typeface="Times New Roman"/>
              </a:rPr>
              <a:t>MERIENDA</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80 gr. de pan blanco o integral.</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5 gr. ALIMENTO PROTEICO: atún sin aceite, queso o fiambre magro</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0 ml de leche ó 1 yogur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ea typeface="Arial"/>
              </a:rPr>
              <a:t>CENA</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00 g de verdura cocida ó en ensalad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50 g de patata ó 45g de pasta ( fideos, sémola)</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100 g de carne magra sin piel ó 150 g de pescado blanco ó 100 g de pescado azul ó 1 huevo</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2 yogures desnatados ó 200 gr. de fruta fresca        </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a:t>
            </a:r>
            <a:r>
              <a:rPr b="0" lang="en-US" sz="2800" spc="-1" strike="noStrike">
                <a:solidFill>
                  <a:srgbClr val="ffffcc"/>
                </a:solidFill>
                <a:latin typeface="Arial"/>
                <a:ea typeface="Arial"/>
              </a:rPr>
              <a:t>80 g de pan</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00cc"/>
                </a:solidFill>
                <a:latin typeface="Arial"/>
                <a:ea typeface="Arial"/>
              </a:rPr>
              <a:t>ANTES DE ACOSTARSE</a:t>
            </a:r>
            <a:r>
              <a:rPr b="0" i="1" lang="en-US" sz="4400" spc="-1" strike="noStrike">
                <a:solidFill>
                  <a:srgbClr val="ffcc66"/>
                </a:solidFill>
                <a:latin typeface="Times New Roman"/>
              </a:rPr>
              <a:t> </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300 ml. de leche o 3 yogures naturales.</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Arial"/>
              </a:rPr>
              <a:t>20 gr. de pan blanco o integral o 2 galletas “María</a:t>
            </a:r>
            <a:r>
              <a:rPr b="0" lang="en-US"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cc33"/>
                </a:solidFill>
                <a:latin typeface="Times New Roman"/>
              </a:rPr>
              <a:t>ANOREXIA</a:t>
            </a:r>
            <a:endParaRPr b="0" i="1" lang="en-US" sz="60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a anorexia es una enfermedad mental que consiste en una pérdida </a:t>
            </a:r>
            <a:r>
              <a:rPr b="1" i="1" lang="en-US" sz="3200" spc="-1" strike="noStrike">
                <a:solidFill>
                  <a:srgbClr val="ffffcc"/>
                </a:solidFill>
                <a:latin typeface="Times New Roman"/>
              </a:rPr>
              <a:t>voluntaria</a:t>
            </a:r>
            <a:r>
              <a:rPr b="1" lang="en-US" sz="3200" spc="-1" strike="noStrike">
                <a:solidFill>
                  <a:srgbClr val="ffffcc"/>
                </a:solidFill>
                <a:latin typeface="Times New Roman"/>
              </a:rPr>
              <a:t> de peso por un deseo patológico de adelgazar y un intenso temor a la obesidad.</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DATOS</a:t>
            </a:r>
            <a:endParaRPr b="0" i="1" lang="en-US" sz="48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90 % afecta niñas de 14 a 18 añ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10 % son niños, menores de 12 años y mujeres madur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00 jóvenes la padece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orción es 10 a 1 a favor de la muj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grupo de riesgo</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er mujer jove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ener antecedentes familiares de anorexia, bulimia, trastornos depresivos, obsesivos o alcoholismo.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Sufrir previamente un problema de obesidad o simplemente algo de sobrepes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oseer determinados rasgos de carácter: ser perfeccionista, excesivamente responsable para la edad o situación, sufrir de inseguridad, timidez o introversión, o tener una baja autoesti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factores desencadenantes</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Haber ganado peso recientemente y estar a régime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adecer alguna enfermedad que dificulte o impida comer durante unos días (amigdalitis, gastroenteritis, etc.).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Haber incrementado el ejercicio físico.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cibir críticas sobre el tipo o el peso, en cualquier ambient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Tener que enfrentarse a situaciones nuevas o difíciles, perder a seres queridos, encontrarse en situaciones de aislamiento o soledad.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68360" y="549360"/>
            <a:ext cx="8675640" cy="558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00cc"/>
                </a:solidFill>
                <a:uFillTx/>
                <a:latin typeface="Times New Roman"/>
              </a:rPr>
              <a:t>factores sociales:</a:t>
            </a:r>
            <a:endParaRPr b="0" lang="en-US" sz="36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en-US" sz="3200" spc="-1" strike="noStrike">
                <a:solidFill>
                  <a:srgbClr val="ffffcc"/>
                </a:solidFill>
                <a:latin typeface="Times New Roman"/>
              </a:rPr>
              <a:t>muchos y muy complejos</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1- </a:t>
            </a:r>
            <a:r>
              <a:rPr b="1" i="1" lang="en-US" sz="3200" spc="-1" strike="noStrike" u="sng">
                <a:solidFill>
                  <a:srgbClr val="ffffcc"/>
                </a:solidFill>
                <a:uFillTx/>
                <a:latin typeface="Times New Roman"/>
              </a:rPr>
              <a:t>La presión social y mediática</a:t>
            </a:r>
            <a:r>
              <a:rPr b="1" i="1" lang="en-US" sz="3200" spc="-1" strike="noStrike">
                <a:solidFill>
                  <a:srgbClr val="ffffcc"/>
                </a:solidFill>
                <a:latin typeface="Times New Roman"/>
              </a:rPr>
              <a:t> que existe en torno a la línea y el adelgazamiento tiene un papel decisivo en la aparición y desarrollo de la enfermedad</a:t>
            </a:r>
            <a:r>
              <a:rPr b="0" lang="en-US"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a:t>
            </a:r>
            <a:r>
              <a:rPr b="1" lang="en-US" sz="3200" spc="-1" strike="noStrike" u="sng">
                <a:solidFill>
                  <a:srgbClr val="ffffcc"/>
                </a:solidFill>
                <a:uFillTx/>
                <a:latin typeface="Times New Roman"/>
              </a:rPr>
              <a:t>la moda y la publicidad</a:t>
            </a:r>
            <a:r>
              <a:rPr b="1" lang="en-US" sz="3200" spc="-1" strike="noStrike">
                <a:solidFill>
                  <a:srgbClr val="ffffcc"/>
                </a:solidFill>
                <a:latin typeface="Times New Roman"/>
              </a:rPr>
              <a:t> incitan más frecuentemente a adelgazar que a mantener una buena salud.</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0099"/>
                </a:solidFill>
                <a:latin typeface="Times New Roman"/>
              </a:rPr>
              <a:t>CONSECUENCIA DE LO ANTERIOR</a:t>
            </a:r>
            <a:r>
              <a:rPr b="0" lang="es-ES" sz="2800" spc="-1" strike="noStrike">
                <a:solidFill>
                  <a:srgbClr val="ffffcc"/>
                </a:solidFill>
                <a:latin typeface="Times New Roman"/>
              </a:rPr>
              <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Los factores que predisponen  y los sociales interactúan entre si determinando una serie de cambios en la personalidad y conducta que, en la pubertad y bajo el influjo de los factores precipitantes, conducen al deseo de adelgazar mediante la realización de dietas y/o ejercicio físico exagerado, lo que en efecto produce una pérdida de peso progresiva.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0000"/>
                </a:solidFill>
                <a:latin typeface="Times New Roman"/>
              </a:rPr>
              <a:t>CAUSAS</a:t>
            </a:r>
            <a:endParaRPr b="0" i="1" lang="en-US" sz="60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La desnutrición resultante provoca trastornos mentales que refuerzan el deseo de seguir adelgazando, instaurándose de esta manera un terrible círculo vicioso psíquico del que es muy difícil escapa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SEÑALES DE ALARMA</a:t>
            </a:r>
            <a:endParaRPr b="0" i="1" lang="en-US" sz="48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1- Peso corporal anormalmente bajo.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 Mantenimiento deliberado de ese peso corporal mediante dieta, ejercicio, abuso de laxantes o diuréticos, o una combinación de los tres.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3- Síntomas de inanición.</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CONSECUENCIAS</a:t>
            </a:r>
            <a:endParaRPr b="0" i="1" lang="en-US" sz="48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0" algn="ctr">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Frecuencia cardiaca y presión arterial bajas, lo que provoca un cambio en la musculatura del corazón y fallas en su funcionamiento.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ducción de la densidad ósea (osteoporosis), lo que provoca ruptura de huesos.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bilidad y pérdida de músculo. </a:t>
            </a:r>
            <a:endParaRPr b="0" lang="en-US" sz="2800" spc="-1" strike="noStrike">
              <a:solidFill>
                <a:srgbClr val="ffffcc"/>
              </a:solidFill>
              <a:latin typeface="Times New Roman"/>
            </a:endParaRPr>
          </a:p>
          <a:p>
            <a:pPr marL="335880" indent="-3358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shidratación severa lo que provoca fallas en los riñone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Times New Roman"/>
              </a:rPr>
              <a:t>CONSECUENCIAS</a:t>
            </a:r>
            <a:endParaRPr b="0" i="1" lang="en-US" sz="48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bilidad general, desmayos y fatigas.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Resequedad de la piel y pérdida del cabello.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sarrollo de cabello delgado en todo el cuerpo, incluyendo la cara (pelusa), para mantener el cuerpo caliente, ya que carecen de la grasa (tejido adiposo) que sirve como aislante para regular la temperatura corporal.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n ocasiones muerte por inanición. </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El 30% se cronifica y el 10 % se mueren.</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33cc33"/>
                </a:solidFill>
                <a:latin typeface="Times New Roman"/>
              </a:rPr>
              <a:t>BULIMIA</a:t>
            </a:r>
            <a:endParaRPr b="0" i="1" lang="en-US" sz="6000" spc="-1" strike="noStrike">
              <a:solidFill>
                <a:srgbClr val="ffcc66"/>
              </a:solidFill>
              <a:latin typeface="Times New Roman"/>
            </a:endParaRPr>
          </a:p>
        </p:txBody>
      </p:sp>
      <p:sp>
        <p:nvSpPr>
          <p:cNvPr id="15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La bulimia es una enfermedad de tipo nervioso que produce alteraciones en el comportamiento y en los hábitos de alimentación, con la alternancia de periodos de compulsión para comer (atracones) con otros de conductas compensatorias inadecuadas (dietas abusivas, provocación de vómitos, ingesta de diversos medicamentos -(laxantes y diuréticos-, etc.). Se trata de una enfermedad grave y potencialmente morta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0560" y="-122760"/>
            <a:ext cx="8713800" cy="67914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Es muy importante la alimentación por:</a:t>
            </a:r>
            <a:br>
              <a:rPr sz="4400"/>
            </a:br>
            <a:r>
              <a:rPr b="0" i="1" lang="en-US" sz="4400" spc="-1" strike="noStrike">
                <a:solidFill>
                  <a:srgbClr val="ffcc66"/>
                </a:solidFill>
                <a:latin typeface="Times New Roman"/>
              </a:rPr>
              <a:t>1- Aumento de las </a:t>
            </a:r>
            <a:r>
              <a:rPr b="0" i="1" lang="en-US" sz="4400" spc="-1" strike="noStrike">
                <a:solidFill>
                  <a:srgbClr val="ff3300"/>
                </a:solidFill>
                <a:latin typeface="Times New Roman"/>
              </a:rPr>
              <a:t>necesidades energéticas en cantidad y </a:t>
            </a:r>
            <a:r>
              <a:rPr b="0" i="1" lang="en-US" sz="4400" spc="-1" strike="noStrike" u="sng">
                <a:solidFill>
                  <a:srgbClr val="ff3300"/>
                </a:solidFill>
                <a:uFillTx/>
                <a:latin typeface="Times New Roman"/>
              </a:rPr>
              <a:t>calidad</a:t>
            </a:r>
            <a:r>
              <a:rPr b="0" i="1" lang="en-US" sz="4400" spc="-1" strike="noStrike">
                <a:solidFill>
                  <a:srgbClr val="ffcc66"/>
                </a:solidFill>
                <a:latin typeface="Times New Roman"/>
              </a:rPr>
              <a:t> </a:t>
            </a:r>
            <a:br>
              <a:rPr sz="4400"/>
            </a:br>
            <a:r>
              <a:rPr b="0" i="1" lang="en-US" sz="4400" spc="-1" strike="noStrike">
                <a:solidFill>
                  <a:srgbClr val="ffcc66"/>
                </a:solidFill>
                <a:latin typeface="Times New Roman"/>
              </a:rPr>
              <a:t>2- Nuevos </a:t>
            </a:r>
            <a:r>
              <a:rPr b="0" i="1" lang="en-US" sz="4400" spc="-1" strike="noStrike">
                <a:solidFill>
                  <a:srgbClr val="ff3300"/>
                </a:solidFill>
                <a:latin typeface="Times New Roman"/>
              </a:rPr>
              <a:t>hábitos de consumo perjudiciales. </a:t>
            </a:r>
            <a:br>
              <a:rPr sz="4400"/>
            </a:br>
            <a:r>
              <a:rPr b="0" i="1" lang="en-US" sz="4400" spc="-1" strike="noStrike">
                <a:solidFill>
                  <a:srgbClr val="ff3300"/>
                </a:solidFill>
                <a:latin typeface="Times New Roman"/>
              </a:rPr>
              <a:t> </a:t>
            </a:r>
            <a:r>
              <a:rPr b="0" i="1" lang="en-US" sz="4400" spc="-1" strike="noStrike">
                <a:solidFill>
                  <a:srgbClr val="ffcc66"/>
                </a:solidFill>
                <a:latin typeface="Times New Roman"/>
              </a:rPr>
              <a:t>4- Aumento del</a:t>
            </a:r>
            <a:r>
              <a:rPr b="0" i="1" lang="en-US" sz="4400" spc="-1" strike="noStrike">
                <a:solidFill>
                  <a:srgbClr val="ffffcc"/>
                </a:solidFill>
                <a:latin typeface="Times New Roman"/>
              </a:rPr>
              <a:t> </a:t>
            </a:r>
            <a:r>
              <a:rPr b="0" i="1" lang="en-US" sz="4400" spc="-1" strike="noStrike">
                <a:solidFill>
                  <a:srgbClr val="ff3300"/>
                </a:solidFill>
                <a:latin typeface="Times New Roman"/>
              </a:rPr>
              <a:t>sedentarismo </a:t>
            </a:r>
            <a:br>
              <a:rPr sz="4400"/>
            </a:br>
            <a:r>
              <a:rPr b="0" i="1" lang="en-US" sz="4400" spc="-1" strike="noStrike">
                <a:solidFill>
                  <a:srgbClr val="ffcc66"/>
                </a:solidFill>
                <a:latin typeface="Times New Roman"/>
              </a:rPr>
              <a:t>5-</a:t>
            </a:r>
            <a:r>
              <a:rPr b="0" i="1" lang="en-US" sz="4400" spc="-1" strike="noStrike">
                <a:solidFill>
                  <a:srgbClr val="ffffcc"/>
                </a:solidFill>
                <a:latin typeface="Times New Roman"/>
              </a:rPr>
              <a:t> </a:t>
            </a:r>
            <a:r>
              <a:rPr b="0" i="1" lang="en-US" sz="4400" spc="-1" strike="noStrike">
                <a:solidFill>
                  <a:srgbClr val="ffff00"/>
                </a:solidFill>
                <a:latin typeface="Times New Roman"/>
              </a:rPr>
              <a:t>ANOREXIA, BULIMIA y OBESIDAD</a:t>
            </a:r>
            <a:br>
              <a:rPr sz="4400"/>
            </a:b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80880" y="228600"/>
            <a:ext cx="8382240" cy="63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ACRONUTRIENTE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lorías Total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DRATOS DE CARBONO= 50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TEINAS= DEL 15-20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ASAS= DEL 30-35 % (AC. Grasos esenciales y vit. Liposolub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5480"/>
            <a:ext cx="7772400" cy="608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99" name="PlaceHolder 2"/>
          <p:cNvSpPr>
            <a:spLocks noGrp="1"/>
          </p:cNvSpPr>
          <p:nvPr>
            <p:ph/>
          </p:nvPr>
        </p:nvSpPr>
        <p:spPr>
          <a:xfrm>
            <a:off x="457200" y="1523520"/>
            <a:ext cx="822960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3 minerales muy importantes:</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Calcio</a:t>
            </a:r>
            <a:r>
              <a:rPr b="0" lang="es-ES" sz="2800" spc="-1" strike="noStrike">
                <a:solidFill>
                  <a:srgbClr val="ffffcc"/>
                </a:solidFill>
                <a:latin typeface="Times New Roman"/>
              </a:rPr>
              <a:t>= Huesos, glóbulos rojos y músculo, tb relacionados con crecimiento de uñas y cabello. 1 litro diario de leche o derivados. La lactosa, la vit. D y proteínas facilitan. La  fibra, la cafeína y el azúcar dificultan.</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Hierro</a:t>
            </a:r>
            <a:r>
              <a:rPr b="0" lang="es-ES" sz="2800" spc="-1" strike="noStrike">
                <a:solidFill>
                  <a:srgbClr val="ffffcc"/>
                </a:solidFill>
                <a:latin typeface="Times New Roman"/>
              </a:rPr>
              <a:t>= 2 mg/día varones y 5 mg/día mujeres. Mejor se absorbe carne. Peor Legumbre, verduras y otros alimentos.</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Zinc</a:t>
            </a:r>
            <a:r>
              <a:rPr b="0" lang="en-US" sz="3200" spc="-1" strike="noStrike">
                <a:solidFill>
                  <a:srgbClr val="ffffcc"/>
                </a:solidFill>
                <a:latin typeface="Times New Roman"/>
              </a:rPr>
              <a:t>= Importante en la síntesis proteica, por lo tanto formación de tejidos. 12 mg/día chicas y 15 mg/día chicos. CARNE, HUEVOS Y PESCADOS. También Legumbres y cereales complejos (la fibra dificulta la absorción)</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Times New Roman"/>
              </a:rPr>
              <a:t>MICRONUTRIENT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Otros= </a:t>
            </a:r>
            <a:r>
              <a:rPr b="0" lang="en-US" sz="3200" spc="-1" strike="noStrike">
                <a:solidFill>
                  <a:srgbClr val="ffffcc"/>
                </a:solidFill>
                <a:latin typeface="Times New Roman"/>
              </a:rPr>
              <a:t>Todo lo relacionado con la síntesis proteica, crecimiento y desarrollo. Vitaminas: A, D, Ac. Fólico, B12, B6, Riboflavina, Niacina y Tiamina. En</a:t>
            </a:r>
            <a:r>
              <a:rPr b="0" lang="en-US" sz="4000" spc="-1" strike="noStrike">
                <a:solidFill>
                  <a:srgbClr val="ffffcc"/>
                </a:solidFill>
                <a:latin typeface="Times New Roman"/>
              </a:rPr>
              <a:t> </a:t>
            </a:r>
            <a:r>
              <a:rPr b="0" lang="en-US" sz="4000" spc="-1" strike="noStrike">
                <a:solidFill>
                  <a:srgbClr val="ffff00"/>
                </a:solidFill>
                <a:latin typeface="Times New Roman"/>
              </a:rPr>
              <a:t>FRUTAS Y VERDURAS</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08:50:44Z</dcterms:created>
  <dc:creator>CASIUS</dc:creator>
  <dc:description/>
  <dc:language>en-US</dc:language>
  <cp:lastModifiedBy>CASIUS</cp:lastModifiedBy>
  <dcterms:modified xsi:type="dcterms:W3CDTF">2011-04-05T17:10:32Z</dcterms:modified>
  <cp:revision>13</cp:revision>
  <dc:subject/>
  <dc:title>ALIMENTACION EN LA ADOLESCENCIA</dc:title>
</cp:coreProperties>
</file>